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123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DAD1-B32F-468B-857E-E003D4927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58EA-1140-4AD8-822A-93CD0F6FB06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92B3-F1DA-469B-AEA6-D1B0EA97CF2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4F03-496B-4CDB-A724-899B2C4EC34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2037-7CC0-4790-8038-AFAF5BED4CD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4626-AB77-4F41-BDA2-346A25F2E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9349-7A08-4ACC-A886-0AEAA55EE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73FB-7F29-4DF5-A98F-1AE20299541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DED4-984A-4802-BAB9-5EFAF877511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671A-4AF1-46F5-BBF8-A5150996B70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CC70-5A1C-4097-AD5C-2F9C7C4605C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70BE-463E-4107-B13A-BC4E98F88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6809-66B5-43EF-AE79-524F31515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5E3B-6B2B-45D0-845F-9B3963517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definition, based on FTE + TSH elevation. Can have higher TSH with higher T4, arguably more likely to be clinically overt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60D2-F12A-498D-AC97-8DC4ABDC94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B517-0745-4FB1-B1AC-0054D2D99B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F873-A2D6-44F1-B5EB-E966EADAFF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90C-CB2D-41BF-BE58-1E92D027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778-66C0-40C4-BFC3-042F4F5A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290-A14B-474B-972D-F46D1958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87E-BC8A-4B63-A92F-24101382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826-D3FE-4351-B14F-28A2E413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A3E-3CD4-4FAB-B7C6-899A1A38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DCD-F3FD-4C3E-83C6-3237E858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E6C-89CD-4C5A-A4AB-E70C92FE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083A-0400-4583-B369-132599C4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03E-535F-45C7-8DFF-7A1D5E0B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253-AA06-4652-BF52-82438A67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28C-7ABB-46D9-8E11-A4B88395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3922-C84A-42CB-9D0A-39E174855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54120" y="2819520"/>
            <a:ext cx="8229600" cy="31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ц. др Виолета Младен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ниста-ендокрино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28760" y="603360"/>
            <a:ext cx="845496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ГРИСАНЕ АКАДЕМСКЕ СТУДИЈЕ МЕДИЦИНЕ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НА МЕДИЦИНА 2</a:t>
            </a:r>
            <a:br>
              <a:rPr sz="2000"/>
            </a:b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ставна јединиц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ХИПЕР И ХИПОТИРЕОЗА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БОЛЕСТИ ГОНАДА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ИРЕО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ТО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КСИКОЗ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228600" y="-360"/>
            <a:ext cx="96775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е повећане концентрације тироидних хормона у крви збо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е продукције у штитастој жлезди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ња након разарања штитасте жлезде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јатроге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ХИПЕРТИРЕОЗ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е повећане концентрације тироидних хормона у крви због њихове повећане продукције у штитастој жлез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СУПРЕСИВНА ТЕРАПИЈА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L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thyroxine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-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36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њује се након хируршких и радиотерапијских процедура у лечењу диферентованих тумора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ресивна доз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а омогућава одржавање вредности 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спод могућности лабораторијске детекције (обично &lt;0.1мИУ/м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Поремећаји гона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оремећаји мушких гон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оремећаји женских гон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Неплод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оремећаји диференцијације по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Поремећаји женских гона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ремећаји функције јајника пре и током пубер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ertas praec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ремећаји функције јајника у репродуктивном пери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Дисменореја, пременструациони синд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еправилности менстрационог цикл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бнормална крварења из утер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ронична ановул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меноре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рзут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енопау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Аменоре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ест проблем (око 3% свих жена, односно 10-20% жена са проблемом неплодн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останак менструације током најмање 6 месеци (олигоменореја је неуредан МЦ у коме се МЦ појављује у било ком периоду од 35 дана до 6 месец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де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а: одсуство менарх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ундарна: одсуство МЦ код жена које су претходно имале менструац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ремећаји хипоталамуса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y Kallman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психотропни лекови, мршављење, прекомерна физичка активност, психогени поремећај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Хипофизни 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деструктивне лезије, хипопитуитаризам, 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секретрни и несекреторни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 sell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парцијални изоловани дефицит гонадотроп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ремећаји оваријума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CO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превремена оваријална инсуфицијенција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 Turn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тестикуларна феминизација, прави херматофродитизам, ирадијација, хемиотерап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ремећаји гениталног тра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бољења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бољења надбубрежних жлез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ХИРЗУТ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је појава длакавости у жена на андроген-сензитивним подручји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ндроген-сензитивна подручја су делови тела где се длаке нормално не појављују у жена, док се нормално налазе код мушкараца и представљају секундарну сексуалну карактеристику мушког по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609480" y="-360"/>
            <a:ext cx="10058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АНД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ОГЕН- СЕНЗИТИВНА ПОДРУЧ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ус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бра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Бр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едео око ареола дој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ру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редишња линија трб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утеални пред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орња трећина бутина са унутрашње стр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ХИРЗУТ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 број длака по јединици површине ко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змењена морфологија: дуже, грубље структуре и тамн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Време појаве обично 20-40 год (физиолошки појачан раст на лицу: адолесценција и 45-55 год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ЗНАЧАЈНИ ТЕРМИ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ХИРЗУТИЗ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ХИПЕРТРИХО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ВИРИЛИЗ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ХИПЕРТРИХ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9296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ПЕРТРИХОЗА је појачана маљавост на местима која нису андроген сензитивна: екстремитети и предео леђ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Узрок: генетски, болести коре мозга (енцефалитис, МС), гладовање, анорексија, лекови (стрептомицин, диазоксид, ГК, миноксидил, циклоспор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ЕТИОПАТОГЕНЕЗА  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М.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Gr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кретач болести је комбинација генетске предиспозиције и окидача (стрес, инфекција и порођај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 Ab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антитела на рецептор за 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уготрајна стимулација рецептора за ТСХ на тиреоцитима након везива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 Ab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ција са хиперплазијом тироидног тк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ћ настанак тироидне офталмопатије и дерматопат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ВИРИЛИЗ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ВИРИЛИЗАЦ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је регресија женских и попримање мушких секундарних сексуалних карактеристика због повећане продукције андроге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зразит хирзут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Фронтална ћела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ушки хабит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трофија дој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одубљен гл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литоромегал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сихичке промене (повећан либидо и агресивно понашањ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РЗУТИЗАМ је клиничка манифестација хиперандрогенизма (повећане концентрације и/или активности андроген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рзутизам настаје у интеракцији активности андрогена и осетљивости фоликула длака на њ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ЕТИОПАТОГЕНЕ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а продукција андрогена (оваријуми или надбубре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а биолошка активност андрогена (повишен ниво слободних андроге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ње конверзије андрогена у метаболите који имају потентнију андрогену актив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мањење метаболичког клиренса андрог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е сензитивности циљног ткива на андрог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937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ПОРЕМЕЋАЈИ ОВАРИЈ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Sy 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пертек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Тумори (аренобластом, тератом, Ту хилусних  ћел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ПОРЕМЕЋАЈИ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орбус и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Sy Cu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C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арци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Вирилизујући ад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ИДИОПАТСКИ ХИРЗУТ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а активност 5-алфа редукта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а сензитивност андрогених рецеп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ГК,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ACT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Циклоспорин, Миноксидил, Диазоксид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ОСТАЛ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Акромегал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АНДРОГЕНИ КОД ЖЕ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ТЕСТОСТЕРОН (Т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0 x потентнији од А и 20 x од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HE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рекло: 50% конверзија из А, 25% секреција оваријума и 25% секреција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АНДРОСТЕНДИОН (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рекло: 60% секреција из оваријума и 40% из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ДИХИДРОЕПИАНДРОСТЕР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HEA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рекло: 90% секреција из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АНДРОГЕНИ КОД ЖЕ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10287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BG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– глобулин који везује сексуалне стерои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онтролише физиолошки ефективан ниво андрог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 естрогена у плаз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само невезана фракција хормона је биолошки актив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редуктаза је ензим у фоликулу длаке који метаболиш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лабије” андрогене у јаче (Т и дихидротестостеро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КЛИНИЧКА ЕВАЛУ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Раздвојити хирзутизам од хипертрих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Видети да ли има знакова вирилиз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оценити знакове хиперандроген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тепен хирзут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ушки тип ћелав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ебореја и цистичне ак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ередован менструални цикл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литоромегалија (&gt; 35мм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одубљен гл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ње мишићне ма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сихичке промене (повећан либидо и агресивнос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СТЕПЕН ХИРЗУТИЗМА</a:t>
            </a:r>
            <a:br>
              <a:rPr sz="3600"/>
            </a:b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скала </a:t>
            </a:r>
            <a:r>
              <a:rPr b="1" i="1" lang="sl-SI" sz="3600" spc="-1" strike="noStrike">
                <a:solidFill>
                  <a:srgbClr val="ff0000"/>
                </a:solidFill>
                <a:latin typeface="Arial"/>
              </a:rPr>
              <a:t>Ferriman Gallowа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оцена степена хирзутизма у појединим регијама т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цена од 0 (одсуство длака) до 4 (јака  маљавос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Укупан збир бодова изнад 8 означава хирзут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аус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р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ру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орњи део леђ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оњи део леђ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адлакт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орњи део трб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оњи део трб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ут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дколе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длактиц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линичка евалу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дређивање концентрације хормона у кр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Динамски тесто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Радиолошка евалу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стал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80880" y="228600"/>
            <a:ext cx="9524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Одређивање концентрације хормона у кр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Узима се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o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ован” узорак кр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дређују с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Тестостерон (раније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Тестостерон и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SHBG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ндростенди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DHEA-SО4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форма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DHE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са дужим полуживотом и мањим диуралним варијација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стало:17-OH прогестерон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SH, LH, P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Последице тиреотоксикоз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228960" y="152352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базалног метаболизма (катаболиза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топло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упркос добром апети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бфебрил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, несаница, раздражљ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броја адренергичких рецептора (повећана осетљивост на катехоламин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езноја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ивергентна артеријска хипертен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ремор екстреми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Динамски тестов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Циљ: раздвојити оваријални од надбубрежног хиперандроген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варијални зависи од гонадотропи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 надбубрежни од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АCT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упресија оваријалне продукције помоћ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nR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агони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упресија надбубрега применом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xamethaso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тимулација надбубрега применом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АC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Радиолошка евалу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УЗ јајника (трансвагинални) – полицистизам јајника, тумори јај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ЦТ – морфологија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МР – морфологија надбубрега и овариј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елективна катетеризација вена јајника и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тиолошко лечење (нпр. Одстрањење тумора који продукује андроген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пште мере (редукција телесне мас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едикаментна терап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Локална терапија (козметичке процедур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МЕДИКАМЕНТНА ТЕРАП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Супресија продукције андрог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икокортикоиди (супресија надбубрег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налоз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nR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супресија оварију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етоконазол (супресија стварања стероида и у надбубрезима и у оваријуми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Антиандрог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тероидни: Ципротерон, Спиронолакт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естероидни: Флутамид, Циметид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нхибитори 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редуктазе: Финастер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кож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9525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п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ритематозна (због повећаног протока крв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ка, сомотаста (смањење кератин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лажна (неподношење топлот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с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меки и лако ломљиви нок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ур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нка ко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илтрати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дермопа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ја (у М. Граве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кочен поглед, израз “зурења” и немогућност затварањ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чних капака (последица повећане актив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атикусног систе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о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05280" y="99072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 тироидне орбитопатије (у М. Граве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алм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проптоза очних јабучица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л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ја и задебљање екстраокуларних мишића, орбиталног масног и везивног ткива (чешће код пушач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функција екстраокуларних мишић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плоп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орбит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 и коњунктивал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д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ећај “песка у очима” и бола у оч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рнеалне улцерације (због проптозе и немогућности затварања очних капа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КВС и Р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а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кард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ол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а повећаним пулсним притиск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а потре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 кисеоником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ним минутним волум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к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-20% п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јената, најчешће старијих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тријални поремећаји рит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ЛК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кардиомиопа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пнеја у миру и у напо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утрошк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производњ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п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 респираторних мишић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капацитет физичке издржљив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струкција трахе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гзацербација бронхијалне аст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пулмоналног прити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ГИ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(због повећане калоригенезе) уз непромењен или појачан апет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деф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ор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ј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театоре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млађих пацијената може довести до краткотрајног пораста телесне ма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о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обично код старији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г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серумски липид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 укупни холестер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Д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холестер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 однос укупни/ХДЛ-холестер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9677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хематопоез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ох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ормо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не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 серумски ферит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склопу М. Граве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неутрофилна антит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982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урогенитал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шће уринирне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р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деце честа енуре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бод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дукован пи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редином менструационог цикл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лигоменоре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меноре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овулат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нфертил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и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Хипофунк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метабол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оидеа је под контрол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ТХ-ХФ осов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05280" y="274320"/>
            <a:ext cx="99824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урогенитал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куп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естостер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бо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естостер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necomas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иби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ректилна дисфунк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ен спермогр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елет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апсорпција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озност кортикалне 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лумен трабекуларне 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Л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еобла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хибирана секрециј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псорпција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екскреција калциј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еопор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и патолошке фрак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вес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удружена и 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оидна акропа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дебљање нок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осте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о формирање костију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рп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стима и фаланга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Н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уромускулар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м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испружене руке и језик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рефлексија (тетивни рефлекс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ичке промене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активност, емоционална лабилност, анксиозност, смањена концентрација, неса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ишићна слабост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ксимална мишићна слабост 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, смањена мишићна маса и снага (нормализују се тек након 6 месец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астенија Грав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у склопу М. Граве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ендокри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етљивост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ћелија панкреаса на гликоз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а инсул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агонизам према периферним ефектима инсул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ој интолеранције глико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Симпто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р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ксиоз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ачано зној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топло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м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тив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брзан рад ср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уз непромењен или чак појачан апет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менструационог цикл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Знац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перактивнос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кинез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субфебрил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нусна тахикардија, атријалне аритмије, атријална фибрилација, срчана инсуфициј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олна HTA, повећан пулсни притис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пла, влажна, “сомотаста” ко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ачано знојење, палмарни еритем, онихо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ширена рима окули и израз “зурења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терана активност симпатику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ини тремор испружених ру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 проксималних миши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ре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инекомас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Специфичности М. Граве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фузно увећана тироиде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неосетљива на бол, тврде конзистен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л и шу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ад тироидејом (чујан звоном стетоскоп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фталмопат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очне манифестације присутне код 50% пацијената): осећај “песка у очима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периорбит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едем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њу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в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еде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хиперем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оше затварање очних капа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функција екстраокуларних миши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диплоп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 при покретању очију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п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рматоакропат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манифестације на кожи и удовима код 20% пацијената): депозиција гликозаминогликана у кожи и доњим екстремитетима (негравитацијски едеми) удружени са еритемом и задебљањем коже, без бола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уриту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пре тиб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де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да ли има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а и знак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метаболичког клиничког ст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ледом тиреоиде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е карактеристике (дифузна и/или нодозна струма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а ли има специфичних манифестација М. Гравес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а ли има елемената за тиреоидити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ијска дијагнос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оху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индром запаљења (СЕ, ККС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и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и ЦР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ни стат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ултразвук и сцинтиграф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ркери аутоимунског проце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 R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Г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ски марке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лцитонин (Ц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глобулин (Т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9372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гијенско-дијететски реж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дукција симпто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ета-блокатори (у случају да су контраиндиковани – антагонисти калцију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едатив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тиреоидних хормо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супресивни леко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а примена радио Ј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17000"/>
            <a:ext cx="88930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ТЕСТОВИ ТИРОИДНЕ ФУНКЦИЈ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68360" y="1814400"/>
            <a:ext cx="8280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 T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3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румски TS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H стимулациони те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говор TSH нa TRH IV in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но TSH расте до 30 mIU/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81240" y="1447920"/>
            <a:ext cx="9753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гијенско-дијететски реж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ње теже физичке активности (до увођења у ремисиј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пушења и избегавање боравка у просторијама са дуванским дим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излагање Сун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брана конзумирања хране богате јо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ње боравка у топлим, влажним просторија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524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тиреоидних хормо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супресивни леко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а примена радио Ј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ад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сична мултинодуларна стр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. Гравес (50% пацијената има ризик од погоршања орбитопатије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 (субтотална тиреидектом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. Гравес који не може бити контролисан тиреосупресив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ад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сична мултинодуларна стр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изање ремис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6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 код којих се спроведе целокупан терапијски циклус (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8 месеци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лапс к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 (обично у првим годинама након ремисиј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лапс је чешћи ко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уш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 који имају позитивна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 R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а крају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ИРЕОСУПРЕСИВ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ИРЕОСУПРЕСИВ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ступни тиреосупресивни леков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мазо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Тиамазол), лек првог изб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пилтиоураци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резервисан за специфичне клиничке ситуациј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вођењ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тврде да се ради о хипертирео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е доз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МИ 20-40 мг (1-2 пута днев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ТУ 300-600 мг (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пута днев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ње ефеката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ва контрола за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8 недеља, првих месеци ослонити се н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4 (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супримиран у том период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надне контроле на 3 месеца, пратит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4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купно трајање терапије 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8 месе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шавањ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стизања ремисије (очекује се у прва 3 месеца терапије) редуковати дозу на ниво одржавањ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.5-15 мг (једном 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в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Т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00-150мг (два до 3 пута днев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Компликације терапиј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80880" y="1447560"/>
            <a:ext cx="9524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хепатитис (јавља се само током терапије ПТ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гранулоцитоза (може га изазвати и ММИ и ПТ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савет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случају развоја изненадне фебрилности и гушобоље одмах проверити КК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АГРАНУЛОЦИТ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ој неутрофила мањи од 0.5 x 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циденција је ок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5%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чешћа са ПТ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верзибилна је уз примену супортативн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 настати наг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кутабилно је да ли рутинска контрола ККС може бити од користи (тада се саветује да се контролише на 2 недеље у првом месецу терапије, затим једном месеч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савет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случају развоја изненадне фебрилности и гушобоље одмах проверити КК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Ам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ј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одарон и штитаста жлезд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фекат амиодарон-а на тиреоидну функциј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антиарит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о сличан тиреоидним хормонима (садржи 39% ј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сечна доза Амиодарон-а (200мг/дан) изазива преоптерећење организма јодом (конц. У плазми и урину преко 40 пута повећан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миодарон се акумулира у масном ткиву и ослаобађа се из њега у периоду дужем од 6 месеци након прекида узим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Ефекат а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ј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одарон-а на тиреоидну функциј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акутна, транзиторна супресија тиреоидне функ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ид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 ( у пацијената који су склони инхибиторним ефектима великих доза ј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токсикоза, која има 3 механиз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од-Баседов-љев ефекат (у мултинодуларној стру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е слично тиреоидити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дукција аутоимунског механизма М.Грав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Иницијални ефек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о инхибиторни ефекат јода на ослобађање Т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тим следи ефекат избегавања Јод-зависне депресије тиреоидеје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W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ff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koff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љев ефека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зад наступа инхибиторни ефекат на дејодиназу и активност рецептора за тиреоидне хормоне: пораст Т4, смањење Т3, пораст рТ3 и транзиторни пораст 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1-3 месец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ХИПЕРФУНКЦИЈА ШТИТАСТЕ ЖЛЕЗД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80880" y="1371600"/>
            <a:ext cx="9524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тиреоидиз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клиничко с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е концентрације тироидних хормона у крви настало због њихове повећане продукције у штитастој жлезди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но њиховом повећаном активношћу у периферним ткивим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чему секреција тироидних хормона више није под регулаторном контролом хипоталамо-хипофизног систе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Индукција хипотиреоидиз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 од уноса јода: у земљама са високим уносом инциденца је 13%, у земљама са малим уносом је &lt;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је немогућност изазивања “ефекта избегавања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шћи је у жена и особа са позитивним Ант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 А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треба прекидати терапију 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арон-ом, а хипотиреозу лечити Л-тироксином (за мониторинг је битан 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јер Т4 може бити повећа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Индукција тиреотоксикоз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миодарон-ом индукована тиреотоксикоза (АИ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 погоршати постројеће аритмије и коронарну боле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 од уноса јода: у земљама са високим уносом инциденца је 2%, у земљама са малим уносом је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Индукција тиреотоксикоз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81240" y="762120"/>
            <a:ext cx="10210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ИТ тип 1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када постоји од раније болест ш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жлезд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еклинички М.Гравес (аутоимунски механизам) или Уни/мулти нодуларна струма (Јод-Басед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в 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DF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е појача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цинтиграфија нормално/појачано везивањ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екид примене лека, високе дозе антитиреоидних лекова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ar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еидектомиј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ИТ тип 2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када нема од ра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тне б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шт. Ж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Леком индукована лизозомална активација са појаво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еструктивног тиреоидитиса и акумулације хистиоци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олази спон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о или се касније разв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идиза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DF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е сниже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цинтиграфија указује на смањено везивањ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нтрастна средства, К-перхлорат,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ar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еидектомиј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          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(“тиреотоксична олуја”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 живот опасна егзацербација хипертиреоидизма (фебрилност, делиријум, мишићни грчеви, повраћање, дијареја, жутица, ко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лечена или непрепозната хипертире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кутна болест (ЦВИ, АИМ, инфекција, траума, Д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-313920"/>
            <a:ext cx="914400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219320"/>
            <a:ext cx="9448920" cy="51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вот опасна, изненадна хиперактивност тироидее. 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заврш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зу континуума: хипертир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дизам-тиреотоксикоза-тиреотоксична олуја-тироидна олу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ероватно одражава д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адренергич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хиперактивност,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дукова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специфич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тре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у амбијенту 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еч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вољно леченог хиперитироидизм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Прогноз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није је морталитет код нелечених пацијената износио 100 %, и 20 % код лечених (пре појаве бета блокатор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ктуелно, морталитет је &lt; 5 % код лечених пацијенат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48240"/>
            <a:ext cx="91440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-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презентациј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1219320"/>
            <a:ext cx="8686800" cy="46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ва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озн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руш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ментални статус (узнемиреност конфузија, ком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аћање/дијаре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+/- жутиц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+/- стру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/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opthalm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22428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-ЦНС манифестациј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04920" y="1371600"/>
            <a:ext cx="845820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њем тежине олује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кинез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и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моционал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с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лн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буњен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оз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пат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пан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м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20988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КАРДИОВАСКУЛАРНЕ МАНИФЕСТАЦИЈ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57200" y="1752480"/>
            <a:ext cx="8153280" cy="29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ећана срчана фреквенц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синусна тахикардија или атријална фибрилациј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ећана раздразљив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АВ блок 1, степен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сок пулсни притиса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глашен S1, S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у развити С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80280"/>
            <a:ext cx="91440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-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преципитишући фактор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33520" y="1676520"/>
            <a:ext cx="760860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, упала плућ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лућна ембол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ођај/токсе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ау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рург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 13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К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бустављање антитироидних леко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196200"/>
            <a:ext cx="9144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80880" y="1905120"/>
            <a:ext cx="838224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сок проток O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зо хлађење  (ако је висока температур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+/- IV течност код дехидратациј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та блокатор IV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gox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окато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анала (АФ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 диуретик за С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ити и лечити преципитишући узро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ЕПИДЕМИ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 хипертиреодизма обољева око 0,5% популациј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најчешћи узрок хипертиреодиз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-80%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пације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ене чешће обољевају од мушкараца (одно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:1.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ик инциденције у старосној доби 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-4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сна расподела: слична инциденција међу белцима и азијатима, док је нижа међу афроамериканц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6600"/>
            <a:ext cx="84582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04920" y="1523880"/>
            <a:ext cx="8839080" cy="33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m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TU 600-900 mg P.O или NG, затим 200-300 m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од (&gt; 1h након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T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: 1-2 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dium iod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V, затим 500 mg/12 h;  или  20 gt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/- Li CO3 600 mg PO затим 300 m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свакодневном раду обратити пажњу на симптоме и знаке хиперметабол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добијања налаза повишених тироидних хормона, направити дистинкцију између тиреотксикозе и хипер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вођење и подешавањ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љано праћење нежељених ефеката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дукација пацијен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ХИПОТИРЕОИДИЗАМ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иза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је стање настало као последица недостатка ефеката тироидних хормона, било због њихове смањене продукције или резистенције периферних ткива на њ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раније синоним за хипотиреозу) данас се односи на промене коже и поткожног ткива које се виђају код пацијената са тешким обликом хипо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ПАТОГЕНЕЗА МИКСЕД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28600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а пермеабилност капил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циркулација лимф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мукополисахарида у интерстицијалној 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ости (хијалуронска киселина и хондроитин сулфат 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" y="4419720"/>
            <a:ext cx="7772400" cy="761760"/>
          </a:xfrm>
          <a:prstGeom prst="rect">
            <a:avLst/>
          </a:prstGeom>
          <a:solidFill>
            <a:srgbClr val="eef9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заробљавање” натријума, протеина и вод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048120" y="5715000"/>
            <a:ext cx="304776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cc"/>
                </a:solidFill>
                <a:latin typeface="Arial"/>
                <a:ea typeface="Arial"/>
              </a:rPr>
              <a:t>МИКСЕДЕ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4495680" y="3657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449568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ЕПИДЕМИ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ДУЛТНА ПОПУЛ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и манифестни об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ко 2% ж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ко 0,1-0,2% мушкар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бклинички об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ко 9,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ОНАТУ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 на 3500 новорођен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ЕТИОЛОШКА ПОД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228960" y="1066680"/>
            <a:ext cx="9372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ОНГЕНИТ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плазија, хипоплазија и ектопија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ефекти у биосинтези и/или дејству х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ЕЧ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и тиреоидит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ежак дефицит јода у исхр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блација тиреоидеје (хируршке интервенције, радијац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ДИКАМЕНТО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Јод, ПТУ, ММИ, К-перхлорат, Тиоцијанат, Литиј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219680" y="-360"/>
            <a:ext cx="1173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ЕТИОПАТОГЕНЕЗ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r>
              <a:rPr b="0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аутоимунски тиреоидити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тицај наслеђа на дефектан имунски одговор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LA DR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3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ој аутоимунског процеса (Т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лимфоци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ора се разорити око 90% тиреоцита да би се развио хипотире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и механиз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-R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локирајућ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атрофија и хипопродукција тироидних х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ишућ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хиперплазија и хиперпродукција тиреоидних хормо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Аб (Ант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 Аб) – деструкција тироц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Г Аб – деструкција тиреоц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цитотоксични Т-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 – апоптоза тиреоц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НИВО ПОРЕМЕЋА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хипофи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ЕРЦИЈ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хипоталам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4267080" y="3352680"/>
            <a:ext cx="1524240" cy="2590920"/>
          </a:xfrm>
          <a:custGeom>
            <a:avLst/>
            <a:gdLst>
              <a:gd name="textAreaLeft" fmla="*/ 0 w 1524240"/>
              <a:gd name="textAreaRight" fmla="*/ 550440 w 152424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638680" y="4343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централни</a:t>
            </a:r>
            <a:r>
              <a:rPr b="0" lang="sl-SI" sz="2800" spc="-1" strike="noStrike">
                <a:solidFill>
                  <a:srgbClr val="3333cc"/>
                </a:solidFill>
                <a:latin typeface="Arial"/>
                <a:ea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ФАКТОРИ РИЗ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об (старији од 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: зен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ојаз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 тироид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рачење вратне рег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ПРЕЗЕНТ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СИМПТОМАТСК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и до 80% пацијена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ВА ЗОНА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тпуна клиничка сл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специфична симптоматолог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докслана симптоматологија (несанаица, појачана раздражљивост, хиперактивнос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ЈЕНА КЛИНИЧКА СЛ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Проблеми у пракс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228600" y="1447560"/>
            <a:ext cx="9677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метаболизам/тиреотоксикоза/хипертиреоз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вођење, праћење ефеката и подешавањ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ликације терапије: токсични хепатитис и агранулоцит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миодарон и штитаста жлез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ПРЕЗЕНТ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ПШТИ СИМПТОМИ И 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имогрожљ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м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обијање у ТМ уз смањење апет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22824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НЕРВ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Н</a:t>
            </a: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И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етарг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памће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паж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каракт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омнол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Церебеларна атакс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штећење чула слуха и ук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опатолошки поремећаји (параноидна или депресивна реакц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НЕУРОМИШИЋНИ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ишићни грче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олови у зглобов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релаксација дубоких тетивних рефлек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 карпалног тун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524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ГАСТРОИНТЕСТИНАЛНИ СИСТ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учн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атв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теор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је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сцит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перисталтика (микседемски мегаколон и илеу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КАРДИОРЕСПИРАТОРНИ СИСТ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нап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ушењ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укл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радикард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мерена хипертен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кардна ефу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леурална ефу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ЕК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н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жена вол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нусна брадикард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жен ПР интерв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е СТ сег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платиран или негативан Т тал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хокардиограф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кардна ефу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диопатска хипертрофична субаортна стеноза (асиметрична хипертрофија септума + опструкција излазног тракта Л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жено ејекционо време Л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РЕПРОДУКТИВНИ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 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либи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фертилност (олигоспермија, ановулац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менструационог циклу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хиперменоре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алактореј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88390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КОЖ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ва, хладна, перутава ко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адутост л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убитак ко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рти нок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ластични едеми лица, руку и подколе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орбитални еде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ладна ко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ледо-жута кожа (анемија+хиперкаротинем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ве акси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е ко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3049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ХЕМАТОЛОШКЕ ПРОМЕ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-лоза: Анемиј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мерена нормоцитна, нормохромна анемија (дефицит еритропоети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икроцитна, хипохромна анемија (менорагија, малапсорпц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 (дефицит Вит Б12 и/или фола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-лоза: без про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ромбоцитна лоз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адхезивност Тр (уз смањење Факто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I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X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 фрагилност крвних судова води у хеморагијски синдро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19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БИОХЕМИЈСКЕ ПРОМЕН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зма глик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деградација инсулина (повећана осетљивост на егзогени инсул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зма лип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фосфолипида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купни 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ол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естерол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ЛДЛ, ТАГ и снижен ХД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нзимски проф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ензима скелетних мишића: ЦП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686160" y="-360"/>
            <a:ext cx="106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(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uervain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нуломатозно запаљење штитасте жлез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зазвано вирусим (мумпс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к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и, инфлуенза, адено- и еховирус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о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струкција фолику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уз ослобађање ТГ и Т3 и Т4 – хипертироксинемија), затим фаза опоравка уз развој транзиторне хипо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овишена температура, системски знаци инфекције,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тиван биохуморални синд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запаљења,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ка фиксација Ј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13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иницијално знаци хипертироксинемије, затим хипо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САИЛ, понекад Г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960" y="0"/>
            <a:ext cx="96771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ИКСЕДЕМСКА КО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авршни стадијум тешког, дуготрајног и нелеченог хипотиреоид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еципитирајући факто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злагање хладноћ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е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естетици и лекови са депресорним дејством на ЦН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 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 (до 23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Ц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, брадикардија, хипотензија, арефлекс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лвеоларна хиповентилација, ретенц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илуциона хипонатри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ички поремећаји: од агитираности (“микседемско лудило”) до ком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КОМПЛИКАЦИЈ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7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ска кома, најозбиљниј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 знаци обухватај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ку 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спорено дис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адекватан одгов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прес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рчана слаб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 ризик за инфекц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ртилит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бача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Компликације услед предозирања супституционом терапијом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тријална фибрилациј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еопороз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хипертироид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0" y="179640"/>
            <a:ext cx="9144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Myxedem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-ска ком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1447920"/>
            <a:ext cx="9144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9520" indent="-20952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 завршни стадијум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 s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нелеченог, занемареног или недијасгностикованог примарног хипотироидизма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шава се код 0.1% случајева хипотироидизм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рло редак код особа &lt; 50 годи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случајева постаје евидентно тек са хоспитализацијом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талитет је 100% код нелечених, 50% код лечених пац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се презентује зими (изложеност хладноћи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-228600" y="-176040"/>
            <a:ext cx="960120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ПРЕЦИПИТИШУЋИ ФАКТОРИ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57200" y="1523880"/>
            <a:ext cx="754848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злагање хладноћ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неумон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У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аум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НС депресор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ркотиц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арбитурати, транкилизер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шти анестетиц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ереброваскуларни акциден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нгестивна С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95280" y="679320"/>
            <a:ext cx="8748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80880" y="304920"/>
            <a:ext cx="8382240" cy="45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Типична презентација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обичајени симптоми и знаци хипотироидизма плус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 (80 % случајев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а / брадикард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вентилација / респираторна слаб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леу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нижен ментални статус / ком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194760"/>
            <a:ext cx="9144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ДОПРИНОШУЋИ ФАКТОРИ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9640" y="1197000"/>
            <a:ext cx="777744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иза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капн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кс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натре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дативни нежељени ефекат леко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пс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212040"/>
            <a:ext cx="9144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РГЕНТНА ТЕРАПИЈ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52280" y="1295280"/>
            <a:ext cx="9220320" cy="36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ubation / ventil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гликемију, +/- IV D50  +/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lox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-250 mg IV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о загревањ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4) 500 mcg IV, затим 50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c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одати 25 mc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iiodothyron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3) P.O. или NG (уколико је оштећена периферна конверзија Т 4 у Т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жљива IV надокнада течности (СИ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тит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треба да опадне за 24h и нормализује за 7 дан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ХИПОТИРЕОЗА И ДРУГЕ БОЛЕ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75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за као атерогени фа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атерогеног ризика у особа са субклиничком хипотиреозом (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ckham Study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уплирање атерогеног ризик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tterdam Study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за и аутоимунске 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трофични гастрит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 (12% има хипотиреоз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енска ентеропа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луригландуларна аутоимунска ендокринопа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Т4 и ТС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аркери аутоимунског процеса (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 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опунска дијагности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ализе крви (ККС, гликемија, липидограм, биохуморални синдром некрозе миоцита, азотне материје у крв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ирање кардиоваскуларне функције (ЕКГ, Ртг пулмо, Ултразвучни преглед срц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155520"/>
            <a:ext cx="91440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ИНТЕРПРЕТАЦИЈ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28600" y="1447920"/>
            <a:ext cx="8610480" cy="31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H -  ↑ У прим. Хипотироидизм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кo je пацијент хипотироидан, а TSH ↓, лезија је на нивоу  хипоталамуса или хипофизе, тада је индикова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H Stimulation Te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рмон је метаболички активан и одређује тироидни стату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К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линичка дил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Хиперметаболичко/хиперадренергич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клиничко ст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и/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reotoxic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и/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erthyre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ХИПОТИРОИД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субклинич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2590920"/>
            <a:ext cx="4040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H обично&l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ко 5%попул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4720" y="2590920"/>
            <a:ext cx="40417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H обично &g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1% попул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-360" y="162864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на обоље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бнормалне изоформе, полиморфизам ТСХ рецеп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екови (ГКС, допаминергици, метоклопрамид, ?метформ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урналне вариј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на трудноћ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дренална Инсуфицијенција (може подићи ТС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TS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je одличан тест осим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ЛЕКОВИ И ТИРЕОИДНА ФУНКЦ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С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пам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ртикостерои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ктреот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оидних хорм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itij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miodar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minoglutetim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ДИФЕРЕНЦИЈАЛНА ДИЈАГН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бубрежна инсуфициј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ијатријски поремећаји у старијих осо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 у старијих осо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онгестивна срчана инсуфициј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ЛЕЧЕЊЕ ХИПОТИРЕОИДИЗ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4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к изб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чин прим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љ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вођење и подешавањ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ечење у посебним стањ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рије осо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схемијска болест ср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удноћ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ферентовани малигнитети тироиде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ЛЕК ИЗБ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12193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-thyroxi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4 - синте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ки лeвотирoксин) је лeк избора za лечeњe и примарног и секундарног (“централног“) хипoтиреоид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псорбује се до 80% унете д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 место апсорпције је дуоденум (20%), горњи (40%) и доњи (40%) јејун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хране може знатно да умањи апсорпц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ЛЕК ИЗБ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блета се узима цела, неподељ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к се узима ујутру, наштину, најмање 30-60 мин пре првог дневног обр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ек се 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ма са вод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други напици (кафа, сок и сл.) могу се узети тек након 3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60 мин, а други лекови тек после 2 с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 доза која олакшава симптоме и доводи до нормализације резулт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ЛЕК ИЗБ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увођења терапије упозорити пацијента на могућ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едне ефек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палпитације, узнемиреност, поремећај столице и сна, главобољ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 постизања циљних вредности, контролиса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4 и 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интервалима на 6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8 неде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рекције дозе се врше у инкрементима од 25мцг левотирокс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 уколико је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S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5-1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9372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мотрити уколико постоје симптоми хипотироидизма, позитивна ТПОАб или потврда атеросклеротске КВБ, СИ или присуство удружених фактора ризика за ове 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 уколико је TSH &gt;10 се препоручу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ти чији серумски ТСХ&gt;10 мИУ/Л су у већем ризику за СИ и кардиоваскуларни морталитет, и треба им укључити терапиј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-thyrox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152280" y="5891040"/>
            <a:ext cx="8991720" cy="30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05280" y="-360"/>
            <a:ext cx="9982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ФАКТОРИ КОЈИ УТИЧУ НА АПСОРПЦИЈ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парати калцијума, алуминијума и гвожђа смањују апсорпцију ЛТ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еини из соје смањују апсорпцију ЛТ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фа смањује апсорпцију ЛТ4 за 32%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желуца праћене хипоацидитетом (ХБП инфекција, атрофични гастритис, примена Х-блокатора) и малапсорптивни синдр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тамин Ц у дози од 1г повећава апсорпцију ЛТ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Хиперметаболичко/хиперадренергичко клиничко ст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457200" y="1066320"/>
            <a:ext cx="9601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23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физиолошким услови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кон узимања хран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промене климатских усло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узрас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трудноћ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физичке актив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замор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дејства ендокриних фактора 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активације симпатикус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23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патолошким услови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еотоксикоз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зниц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феохромоцит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четна фаза хипотермиј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умор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ијабетесна кетоацидоз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рчана инсуфицијенциј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ЦИЉ ТЕРАПИЈ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56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 хипотиреоидиза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вредности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референтним опсезима (идеално 1.0-2.5 мИУ/мЛ) уз потпуно повлачење клиничких симпто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 хипотиреоидиза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постизање вредн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4 у референтним опсезима (идеално на половини распона референтних ведн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ОПШТИ ПРИНЦИП У ЛЕЧЕЊУ ХИПОТИРЕОИДИЗ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61480" y="2109960"/>
            <a:ext cx="748836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Обавезно проценити и кориговати постојање и хипокортицизм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го што се отпочне са супституционим лечењем хипотиреоидиз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УВОЂЕЊЕ И ПОДЕШАВАЊЕ ТЕРАПИ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се постигне адекватна супституција, доза је код већине пацијената константна и обично нису потребне веће корек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неких особа постоје сезонске варијације у дозирањ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лек са малом терапијском шири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80880" y="152280"/>
            <a:ext cx="10362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Хипотиреоиди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м и инвазивне процедур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89632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лечен или недовољно лечен хипотиреоидизам није апсолутна контраиндикација з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ронарну ангиопласти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рона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у бај-па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хирург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ргентне хируршке интервенције (са елективним интервенција треба сачекати до постизања супституциј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СТАРИЈА ПОПУЛАЦИЈА И ОСОБЕ СА ИСХЕМИЈСКОМ БОЛЕШЋУ СРЦ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доза 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5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нев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за се повећава у временским интервали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3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еље у инкрементима од 12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25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за је подмукла болест која се развија полако, навикава и пацијента и његову околину на своје постојање, сурово отупљује пацијента, а све их уљуљкује у незаинтересова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 И ХИПОТИРЕОИД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44%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жена са хипотиреоидизмом је  престало да узима супституциону терапију након сазнања да су трудне (неке по савету здравствених професионалаца!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 И ХИПОТИРЕОИД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ене са хипотиреоидизмом у репродуктивном периоду треба едуковати о трудноћ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удноћа код њих треба да буде планирана и у тренутку концепције супституција мора бити одлична (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&lt;2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о неким ауторима 0,5-1.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аки, чак и субклинички хипотиреоидизам мајке може да утиче на неурокогнитивне функције потомстваУ трудноћи се доз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а повећава за 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рола тиреоидног статуса у трудноћи је почетком сваког тримест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рођаја доз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а се враћа на вредности пре трудно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рођаја контрола тиреоидног статуса врши се након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8 неде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свих трудница (са и без анамнезе о болести штитасте жлезде) треба проверити тиреоидну функцију у првом тромесечју трудно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05280" y="1341360"/>
            <a:ext cx="944892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рола тиреоидног статуса у трудноћи је почетком сваког триместр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рођаја доз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–thyroxin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а се враће на вредности пре трудноћ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рођаја контрола тиреоидног статуса врши се након 6-8 недељ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д свих трудница (са и без анамнезе о болести штитасте жлезде) треба проверити тиреоидну функцију у првом тромесечју трудно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ft AN. Increased Levothyroxine Requirements in Pregnancy - Why, When, and How Much?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 Engl J Med 351;3 july 15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Жене у високом ризику за хипотироидиз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амнеза тироидне дисфункције или операције тироиде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ли знаци тироидне дисфункциј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Жене старије од 3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других АИ поремећаја (ДМ1, Р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одична анамнеза тироидне дисфункциј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амнеза побачаја или превременог порођа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6:05:40Z</dcterms:created>
  <dc:creator>Bill Gates</dc:creator>
  <dc:description/>
  <dc:language>en-US</dc:language>
  <cp:lastModifiedBy>Administrator</cp:lastModifiedBy>
  <dcterms:modified xsi:type="dcterms:W3CDTF">2015-08-30T13:20:03Z</dcterms:modified>
  <cp:revision>200</cp:revision>
  <dc:subject/>
  <dc:title>PATOLOŠKA FIZIOLOGIJA ENDOKRINOG SISTEMA</dc:title>
</cp:coreProperties>
</file>